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DBD-0B4B-492A-B665-FCE87AE6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F7F-7877-4185-8AC2-F10446CB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ED8-0722-4E3B-B980-3EA5F6BD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AFD-4BDF-4C6E-A90A-89C5F62F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116-28A7-4062-8929-D0649E3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040-AEA9-4D45-BB84-602A21F9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2A8-1D04-4939-BE79-0D8F9F43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2BE-17DB-4C78-8DE2-D35F96C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B7E-5B63-4191-AADF-91A3DE7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E97-C92C-471D-995A-F76EC99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329-4938-428A-9E90-9619D47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378-21E4-437F-ADE6-2637172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3D5-90F1-4436-9908-D1759001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Thierry So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ocina bonita y mod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1895400"/>
            <a:ext cx="9753840" cy="10648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sal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B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bella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uatro bonit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ati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bonita pati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1430000" cy="7620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J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jarden gran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 neuv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20:43Z</dcterms:created>
  <dc:creator>sousathi</dc:creator>
  <dc:description/>
  <dc:language>en-US</dc:language>
  <cp:lastModifiedBy>sousathi</cp:lastModifiedBy>
  <dcterms:modified xsi:type="dcterms:W3CDTF">2013-04-11T18:09:49Z</dcterms:modified>
  <cp:revision>7</cp:revision>
  <dc:subject/>
  <dc:title>La Casa</dc:title>
</cp:coreProperties>
</file>